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B807-2F33-44B2-AB45-D625DA44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C6CC-EF3E-4556-965C-4CC909E3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696E-EEAB-4572-A38B-44F6AA88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4257-BA59-4DAB-8E11-BF3F0878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C1EE-57F0-46DA-A4BC-54CC4B45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0B3A-147F-4675-BAE9-8EBD3DC7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12C3-C1D5-417C-A23D-05F758DD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3569-5A81-4743-BEC5-8FBF1E99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1FCB-3F73-4049-BFC4-949A0881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4FDA-A945-4F5E-A214-75411223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B654-D66E-47C4-ACCF-C17F154E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3854-DDEC-46BA-A92F-0449E873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A776-EA96-4761-B1AA-E9FD3E86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ABF9-A759-4CD6-A1EA-9F7B28A5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0DDE-F691-4120-B59E-CE13E29B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1D39-F85B-4FD8-994F-3F2C276BC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BFAB-07D6-45A3-B111-A407DCC7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06F-B102-4DD6-8E19-ED992479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3F32-753D-4A72-A0B4-21D37C43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3539-8960-45A8-BE29-23DA88AD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4345-CBF7-48DD-82F7-317EE6AF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7C3C-D933-4A7F-8BFD-B8C143C2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F05C-B321-49CA-A46F-70A5E829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A1D6-4F9E-4528-9DCA-529DA341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1287-94AB-46F4-BFF3-A1A090B389BC}" type="slidenum">
              <a:rPr b="0" lang="cs-CZ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BE86-15D2-44CB-A7A6-E5AA3054CD43}" type="slidenum">
              <a:rPr b="0" lang="cs-CZ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891880" y="1143000"/>
            <a:ext cx="3355200" cy="520200"/>
          </a:xfrm>
          <a:prstGeom prst="rect">
            <a:avLst/>
          </a:prstGeom>
          <a:solidFill>
            <a:srgbClr val="00ccff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icí – část. ozvučení SHURE série PG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zpěvový mikrofon SHURE SM10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3809880"/>
            <a:ext cx="2209680" cy="1372680"/>
          </a:xfrm>
          <a:prstGeom prst="rect">
            <a:avLst/>
          </a:prstGeom>
          <a:solidFill>
            <a:srgbClr val="00ccff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Zpěv. mikrofon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ehringer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lávesy Yamaha PSR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Casio WK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Modul    E-MU Proteus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95480" y="3809880"/>
            <a:ext cx="1676520" cy="946440"/>
          </a:xfrm>
          <a:prstGeom prst="rect">
            <a:avLst/>
          </a:prstGeom>
          <a:solidFill>
            <a:srgbClr val="00ccff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Zpěv.mikrofon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ehringer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El. kytara Kramer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05520" y="3809880"/>
            <a:ext cx="1676160" cy="1372680"/>
          </a:xfrm>
          <a:prstGeom prst="rect">
            <a:avLst/>
          </a:prstGeom>
          <a:solidFill>
            <a:srgbClr val="00ccff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Zpěv. mikrofon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ennheiser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El. Kytara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Yamaha Pacifica,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akust. Kytara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3809880"/>
            <a:ext cx="1219320" cy="307080"/>
          </a:xfrm>
          <a:prstGeom prst="rect">
            <a:avLst/>
          </a:prstGeom>
          <a:solidFill>
            <a:srgbClr val="00ccff"/>
          </a:solidFill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kytara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57600" y="5410080"/>
            <a:ext cx="12952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dposlech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1600200"/>
            <a:ext cx="12193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dposlech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2590920"/>
            <a:ext cx="16765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kytarové kombo</a:t>
            </a: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Engl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19720" y="2590920"/>
            <a:ext cx="18288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kytarové kombo</a:t>
            </a: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Behringer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77120" y="2590920"/>
            <a:ext cx="205740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Bas. zesilovač Ampeg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2x reprobedna Hartk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5410080"/>
            <a:ext cx="167652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ýšková a basová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edna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x 400 W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x 600 W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38880" y="5410080"/>
            <a:ext cx="167652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ýšková a basová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edna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1 x 400 W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x 600 W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838080"/>
            <a:ext cx="1295280" cy="609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Mixážní pult</a:t>
            </a: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Yamaha 12/2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58600" y="231840"/>
            <a:ext cx="550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aeaea"/>
                </a:solidFill>
                <a:latin typeface="Times New Roman"/>
              </a:rPr>
              <a:t>Zapojení aparatury a nástrojů – B.O.S.</a:t>
            </a:r>
            <a:endParaRPr b="0" lang="en-US" sz="25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1447920"/>
            <a:ext cx="175248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ehringer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Ultrafex EX3200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1981080"/>
            <a:ext cx="17524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ehringer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Crossover CX 2310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2514600"/>
            <a:ext cx="17524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esilovač QSA 650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3048120"/>
            <a:ext cx="175248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esilovač CARVER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2:15:32Z</dcterms:created>
  <dc:creator>Lukáš Ondrušek</dc:creator>
  <dc:description/>
  <dc:language>en-US</dc:language>
  <cp:lastModifiedBy>Lukáš Ondrušek</cp:lastModifiedBy>
  <dcterms:modified xsi:type="dcterms:W3CDTF">2004-10-29T05:11:49Z</dcterms:modified>
  <cp:revision>7</cp:revision>
  <dc:subject/>
  <dc:title>Snímek 1</dc:title>
</cp:coreProperties>
</file>